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3674-DE45-4E81-A6AF-DD8B63670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5244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F5C8-0080-453F-84D2-D5D3E61D0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5244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7920" y="35244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29CC-CCCF-4603-BBCA-D47C556E6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3320" y="12952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5760" y="12952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5244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3320" y="35244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5760" y="35244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BDB3-20DE-4DD1-9B29-2A12EED64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a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a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5244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a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B6D3-AC0A-4B43-8A35-E7D64FA69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7920" y="35244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5244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5244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5244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7920" y="35244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3320" y="12952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5760" y="12952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5244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3320" y="35244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5760" y="35244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6056-33F2-47F5-A531-0A7055127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BF1D-FB75-48C9-90B2-AB19989CA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3CFD-0B4D-455B-9BB5-EA5AF8C2D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a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B4E8-C16D-4F05-8182-2251DE17F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5244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9C26-6F82-4E0F-8AD8-6F4598301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7920" y="35244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6C1F-5EF8-4181-A45F-F9F643B6B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7920" y="12952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244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93A2-A794-4EAD-8443-D6DEA4666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26676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3840" indent="-2250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212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-12600"/>
            <a:ext cx="9144000" cy="850680"/>
          </a:xfrm>
          <a:prstGeom prst="rect">
            <a:avLst/>
          </a:prstGeom>
          <a:solidFill>
            <a:srgbClr val="f212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0" y="6643800"/>
            <a:ext cx="192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delity Highly Confiden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915660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533520" y="6435720"/>
            <a:ext cx="6048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501C-F6AF-4481-9EBD-72C7ADF8AF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440" y="649512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0" y="6495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Fidelity Shared Services India – Internal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12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f122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" y="6643800"/>
            <a:ext cx="192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delity Highly Confiden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51680"/>
            <a:ext cx="9156600" cy="706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00" y="6415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Fidelity Shared Services India – Internal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a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22a90"/>
              </a:solidFill>
              <a:latin typeface="Arial"/>
            </a:endParaRPr>
          </a:p>
          <a:p>
            <a:pPr lvl="1" marL="34596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ualasecurity.com/images/cctv7.jpg&amp;imgrefurl=http://www.cualasecurity.com/cctv.html&amp;h=300&amp;w=363&amp;sz=5&amp;hl=en&amp;start=1&amp;tbnid=OgEBR53h5SRCgM:&amp;tbnh=100&amp;tbnw=121&amp;prev=/images%3Fq%3Dcctv%26gbv%3D2%26hl%3D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germes-online.com/direct/dbimage/50230813/CCTV_Dome_Camera.jpg&amp;imgrefurl=http://www.germes-online.com/catalog/70/1229/134361/color_miniature_camera.html&amp;h=360&amp;w=360&amp;sz=21&amp;hl=en&amp;start=3&amp;tbnid=T99dfLTFfgjZbM:&amp;tbnh=121&amp;tbnw=121&amp;prev=/images%3Fq%3Dcctv%26gbv%3D2%26hl%3De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3.google.com/_RwIWDjrMHGA/R0sbsZT6hMI/AAAAAAAAATQ/YQ3B-rYl7oE/s800/j0422699.jpg&amp;imgrefurl=http://picasaweb.google.com/lh/photo/zKJUKCJKrxCqwUxylp33pg&amp;h=800&amp;w=528&amp;sz=63&amp;hl=en&amp;start=10&amp;tbnid=S4cG-uW9iQwg3M:&amp;tbnh=143&amp;tbnw=94&amp;prev=/images%3Fq%3DSecurity%2Bguards%26imgsz%3Dsmall%257Cmedium%257Clarge%257Cxlarge%26gbv%3D2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220"/>
                </a:solidFill>
                <a:latin typeface="Arial"/>
              </a:rPr>
              <a:t>Security </a:t>
            </a:r>
            <a:br>
              <a:rPr sz="3600"/>
            </a:br>
            <a:r>
              <a:rPr b="1" lang="en-US" sz="3600" spc="-1" strike="noStrike">
                <a:solidFill>
                  <a:srgbClr val="ef1220"/>
                </a:solidFill>
                <a:latin typeface="Arial"/>
              </a:rPr>
              <a:t>Protection, Planning &amp; Preparedness</a:t>
            </a:r>
            <a:endParaRPr b="1" lang="en-US" sz="3600" spc="-1" strike="noStrike">
              <a:solidFill>
                <a:srgbClr val="ef122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2a90"/>
                </a:solidFill>
                <a:latin typeface="Arial"/>
              </a:rPr>
              <a:t>Corporate Security – FBSI Chennai</a:t>
            </a:r>
            <a:endParaRPr b="0" lang="en-US" sz="2400" spc="-1" strike="noStrike">
              <a:solidFill>
                <a:srgbClr val="122a9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mation Ga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1295280"/>
            <a:ext cx="6114960" cy="2113200"/>
            <a:chOff x="1143000" y="1295280"/>
            <a:chExt cx="6114960" cy="2113200"/>
          </a:xfrm>
        </p:grpSpPr>
        <p:pic>
          <p:nvPicPr>
            <p:cNvPr id="10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95280"/>
              <a:ext cx="2557440" cy="21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5867280" y="1981080"/>
              <a:ext cx="13906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CCTV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523880" y="3809880"/>
            <a:ext cx="6858000" cy="1981440"/>
            <a:chOff x="1523880" y="3809880"/>
            <a:chExt cx="6858000" cy="1981440"/>
          </a:xfrm>
        </p:grpSpPr>
        <p:pic>
          <p:nvPicPr>
            <p:cNvPr id="10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523880" y="3809880"/>
              <a:ext cx="198144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5715000" y="4495680"/>
              <a:ext cx="26668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Static Camer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CB4C-927E-4069-8A67-DDAB891293F2}" type="slidenum">
              <a:t>10</a:t>
            </a:fld>
          </a:p>
        </p:txBody>
      </p:sp>
    </p:spTree>
  </p:cSld>
  <p:transition>
    <p:pull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mation Ga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1752480"/>
            <a:ext cx="7772400" cy="3090960"/>
            <a:chOff x="762120" y="1752480"/>
            <a:chExt cx="7772400" cy="30909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762120" y="1752480"/>
              <a:ext cx="306540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4495680" y="1981080"/>
              <a:ext cx="4038840" cy="259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Smart C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Controlle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 Black"/>
                </a:rPr>
                <a:t>Access Door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348E-0185-4C72-A8AC-A6BE4173F091}" type="slidenum">
              <a:t>11</a:t>
            </a:fld>
          </a:p>
        </p:txBody>
      </p:sp>
    </p:spTree>
  </p:cSld>
  <p:transition>
    <p:pull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mation Ga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724280" y="274320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Flap Barri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BF8A-ADFD-495C-A5BB-7447E1FE8A69}" type="slidenum">
              <a:t>12</a:t>
            </a:fld>
          </a:p>
        </p:txBody>
      </p:sp>
    </p:spTree>
  </p:cSld>
  <p:transition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Control - Man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the clock corporate security coverage at the site for effective Emergency hand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4S manpower deployment for functional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3352680"/>
          <a:ext cx="8229600" cy="2114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. 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 S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S - 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S - S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934C-887E-4F4F-B449-6C2985804D75}" type="slidenum">
              <a:t>13</a:t>
            </a:fld>
          </a:p>
        </p:txBody>
      </p:sp>
    </p:spTree>
  </p:cSld>
  <p:transition>
    <p:pull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y Protection - Threa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minal Tres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ft / Pilf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Cala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oris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55FB-2767-4930-AE2E-E6056B8E138A}" type="slidenum">
              <a:t>14</a:t>
            </a:fld>
          </a:p>
        </p:txBody>
      </p:sp>
    </p:spTree>
  </p:cSld>
  <p:transition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rty Protection – Counter Meas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&amp; Machine mix visual Dete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rolling &amp; Surveill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Duty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Checking / Verification of authorization / bonaf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Intelligence &amp; Vigilanc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3EE1-EC1E-4D42-A6C9-3D1794B2433D}" type="slidenum">
              <a:t>15</a:t>
            </a:fld>
          </a:p>
        </p:txBody>
      </p:sp>
    </p:spTree>
  </p:cSld>
  <p:transition>
    <p:pull dir="r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gil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acilitate collection, collation &amp; Dissemination of the relevan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/ Pre–empt against criminals / subversive activities / advance knowledge of possible threat &amp; counter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on / De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08BD-A0A1-407E-8988-13F7937E8439}" type="slidenum">
              <a:t>16</a:t>
            </a:fld>
          </a:p>
        </p:txBody>
      </p:sp>
    </p:spTree>
  </p:cSld>
  <p:transition>
    <p:pull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ergenc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emergencies should be encountered with no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for the same has to be disseminated with all concerned pers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handling procedure should be kept in mind during fighting the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20C1-321A-447B-AB40-7BC8F2C423E5}" type="slidenum">
              <a:t>17</a:t>
            </a:fld>
          </a:p>
        </p:txBody>
      </p:sp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 Complete Fidelity Security Gu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ave a positive attitude, be proud of what 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hysically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ommunicate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B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Be regular, report on time &amp; don’t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Know the Building Topography, Emergency ex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Know all the Posts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Know the Emergency Nos. </a:t>
            </a:r>
            <a:r>
              <a:rPr b="1" lang="en-US" sz="1800" spc="-1" strike="noStrike">
                <a:solidFill>
                  <a:srgbClr val="990000"/>
                </a:solidFill>
                <a:latin typeface="Bookman Old Style"/>
              </a:rPr>
              <a:t>7551/1010/1999/6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void talking to employees directly in case of any problems – report to AO/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Know the Floor Ward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Know where the First aid k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ave a vision to grow – learn Fidelit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earn the art of </a:t>
            </a:r>
            <a:r>
              <a:rPr b="1" lang="en-US" sz="1800" spc="-1" strike="noStrike">
                <a:solidFill>
                  <a:srgbClr val="f21217"/>
                </a:solidFill>
                <a:latin typeface="Bookman Old Style"/>
              </a:rPr>
              <a:t>Fire fighting and First aid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– attend the trainings without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295280"/>
            <a:ext cx="115236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18A3-D9AC-4ADE-B14F-041EBCF52AF6}" type="slidenum">
              <a:t>18</a:t>
            </a:fld>
          </a:p>
        </p:txBody>
      </p:sp>
    </p:spTree>
  </p:cSld>
  <p:transition>
    <p:pull dir="ru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rporate Security – All Time Re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267440" cy="2666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267080" cy="2666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90920" y="3657600"/>
            <a:ext cx="4267080" cy="2666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9638-2E25-442B-A5FC-4E6B58730000}" type="slidenum">
              <a:t>19</a:t>
            </a:fld>
          </a:p>
        </p:txBody>
      </p:sp>
    </p:spTree>
  </p:cSld>
  <p:transition>
    <p:pull dir="ru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- FBS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AA39-304C-438C-8EA3-CB9CD89F4630}" type="slidenum">
              <a:t>2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– Men /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 &amp; Vigi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– Suppor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5E0A-867F-4B90-A2DD-CC0AA4A4DE3B}" type="slidenum">
              <a:t>3</a:t>
            </a:fld>
          </a:p>
        </p:txBody>
      </p:sp>
    </p:spTree>
  </p:cSld>
  <p:transition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unauthorized entry in fac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gulate entry of Fidelity associates / Fidelity Contractors / independent Contractors / Vendors &amp; Vis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ing a track on inward / Outward Material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9570-0B93-4863-B9CE-A00E6265E49D}" type="slidenum">
              <a:t>4</a:t>
            </a:fld>
          </a:p>
        </p:txBody>
      </p:sp>
    </p:spTree>
  </p:cSld>
  <p:transition>
    <p:pull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d Cou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1905120"/>
          <a:ext cx="7097760" cy="2590560"/>
        </p:xfrm>
        <a:graphic>
          <a:graphicData uri="http://schemas.openxmlformats.org/drawingml/2006/table">
            <a:tbl>
              <a:tblPr/>
              <a:tblGrid>
                <a:gridCol w="757080"/>
                <a:gridCol w="1586160"/>
                <a:gridCol w="1584360"/>
                <a:gridCol w="1585800"/>
                <a:gridCol w="1584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.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es / Vis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ty Contr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Contr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55C2-DB99-468B-B177-49C5C29C3A5C}" type="slidenum">
              <a:t>5</a:t>
            </a:fld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Control - Threa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uthorized Entry of person – Tres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of unauthorized material like Explosive / Weap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ft / Pilf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versiv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usion in restricted areas like PTR / FTR / IT 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0468-1DDD-4190-BF82-6F001A83139F}" type="slidenum">
              <a:t>6</a:t>
            </a:fld>
          </a:p>
        </p:txBody>
      </p:sp>
    </p:spTree>
  </p:cSld>
  <p:transition>
    <p:pull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Control – Counter 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581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7F98-119A-4971-916F-2B371A31E9AA}" type="slidenum">
              <a:t>7</a:t>
            </a:fld>
          </a:p>
        </p:txBody>
      </p:sp>
    </p:spTree>
  </p:cSld>
  <p:transition>
    <p:pull dir="r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Control – Method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of Company Associates / Contractors / Visitors &amp; vendors by issuance of a valid ba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hecking of Ba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e ID ch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s &amp; Character check for Independent contr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 check for associates / contr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Intelligence &amp; Vigilance net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64C0-7BA1-4A9B-8A19-2C4B8ADD31CA}" type="slidenum">
              <a:t>8</a:t>
            </a:fld>
          </a:p>
        </p:txBody>
      </p:sp>
    </p:spTree>
  </p:cSld>
  <p:transition>
    <p:pull dir="r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Control - Equi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 Control Do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TV surveil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end access con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basis access for restricted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Lobby for Visitor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B57A-0D06-4D86-AF2B-02495CCD8F38}" type="slidenum">
              <a:t>9</a:t>
            </a:fld>
          </a:p>
        </p:txBody>
      </p:sp>
    </p:spTree>
  </p:cSld>
  <p:transition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02:08:08Z</dcterms:created>
  <dc:creator>AMEE NAGRAJ</dc:creator>
  <dc:description/>
  <dc:language>en-US</dc:language>
  <cp:lastModifiedBy>a455822</cp:lastModifiedBy>
  <dcterms:modified xsi:type="dcterms:W3CDTF">2008-07-19T03:01:04Z</dcterms:modified>
  <cp:revision>250</cp:revision>
  <dc:subject/>
  <dc:title>Slide 1</dc:title>
</cp:coreProperties>
</file>